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880" y="-360"/>
            <a:ext cx="6824520" cy="511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E879516-9898-45D9-8777-F231B496CC29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먼로 파크 연구소의 모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달리 급진적 발명이 많았던 시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증기터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행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등등 주요한 기술 시스템 새로이 출범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 이러한 급진적 발명의 주체는 독립 발명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전신 회사는 전화 발명에 별 역할을 하지 못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초기 역사에도 전화 및 전신 회사들은 극히 미미한 역할밖에 하지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따라서 급진적 발명이 성공하는 주된 길은 스스로 회사를 차리는 방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도 후에 자신의 사업이 이렇게까지 복잡해지리라고는 예상치 못했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과 비슷한 발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였던 엘머 스페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lmer Sperry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관리나 재정의 문제가 자신이 사랑하는 발명들을 실제로 쓰이게 하는 데 필요한 것이라고 인정하긴 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지긋지긋하게 여겼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-_-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런던 시민들은 시의 자치구에 전등과 전력을 조절할 권한을 부여함으로써 지역 행정기관의 전통적인 권력을 보호하려 든 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베를린 시민들은 베를린 시 당국에 조절 능력을 일임함으로써 중앙집중화된 권력기구를 옹호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 수정국 박람회의 성공에 힘입어 홀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Holborn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앙 발전소를 건설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이 시기 영국의 상황은 그리 호의적이지 않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점과 권력 남용이 매우 중요한 사회적 문제로 제기되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기조명법이 발효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따라 영국에서 발전소가 건립되기 위해서는 의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무부의 입법적 절차를 거쳐야 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사기업이 민간기업을 소유할 수 있는 기간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으로 제한되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는 특정회사의 전구를 독점적으로 사용할 수 없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영국의 지방 정부들이 가스등 회사에 많은 투자를 하고 있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스등의 상대적으로 낮은 가격 또한 전기 시스템 도입의 방해요소로 작용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런 상황에서 홀번 중앙발전소는 주식이 급락하여 재정적인 어려움에 직면하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발전소를 폐쇄하는 결과로 이어졌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런 상황에서 대규모 사업가가 등장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규모 사업자들의 저항이 거셌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방정부 또한 각기 독자적인 전력시스템을 가지는 것을 선호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국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이전까지 영국의 전력산업은 소규모 사업장 시스템으로 머물게 하여 대규모 전기 수요가 필요하지 않게 되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규모 지방 발전소들이 서로 표준화되지 못한 채 난립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일은 공적소유를 선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에디슨 회사는 베를린 정부와의 협상으로 통해 문제 해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득에 성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차례로 중앙발전소 건설하면서 에디슨 회사는 독일인 훈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점차 독일회사로 변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E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이름을 바꾸면서 더 이상 외국의 회사가 아닌 독일의 기업으로 인식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에서 시작한 전기사업은 점차 산업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송 시스템으로 확장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로써 베를린은 전기를 중심으로 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산업혁명을 통해 성공적으로 산업화와 도시화를 달성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처럼 독일의 경우는 초기부터 안정적으로 표준화된 전기시스템이 도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달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정한 지역이나 국가에 고유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우연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사적 경험도 기술 스타일을 구성하는 요인이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컨대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중의 독일에서는 구리가 부족했기 때문에 발전소 설계자들이 구리를 절약하기 위해서 발전기의 규모를 크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수는 적게 되도록 설계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때 얻어진 경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혹은 획득된 스타일은 구리의 심각한 부족 문제가 해소된 이후에도 계속 유지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 세계대전 후 맺어진 베르사이유 조약의 결과로 독일이 석탄 생산 지역을 상실하고 배상금 명목으로 석탄의 수입을 요구받게 되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 시스템 구축가들은 점차 역청탄을 사용하게 되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기법이 익혀진 이후에는 역청탄을 사용하는 시스템의 특성이 계속 유지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돌출부가 발생하는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처 예측하지 못했기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 역돌출부를 발견하는 이유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뚜렷한 목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제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있었기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이러한 목표 없이는 보이지 않았을 것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적이고 경제적인 설계라는 목표 아래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효율적이고 비경제적인 부분이 도드라져 보이게 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정적 문제의 해결책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보통 기존 시스템의 성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경우에 따라 그 해결책은 새로운 시스템의 핵이 되기도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그 해결책이 다른 요소와 조화를 이루지 못하는 경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른 요소들에 대한 추가적 발명 추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돌출부를 발견하는 방법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종 비용회계의 기법이 동원되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에 비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도선에 흐르는 전류 줄일 수 있어 에너지 손실 줄일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선에서 에너지 손실을 줄이기 위해 구리도선을 굵게 하던 방식에서 벗어나 구리의 양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0%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 줄일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두 번째 방법으로 제시된 것은 발전소에서는 고압으로 전력을 생산하고 이를 충전소에서 전지에 저장한 후 저압으로 전환하여 가정에 배송하는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보완에 힘입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은 도시 밀집지역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까지 유효하게 사용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편 직류시스템의 결정적 문제가 낮은 송전 전압이라는 인식이 생겨나게 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대해 고전압의 교류로 생산하여 배송한 후 낮은 전압으로 변환 후 배전하는 교류 시스템이 제기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교류발전과 변압기는 골리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Lucien Gaulard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깁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John D. Gibbs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개발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나 이들은 동시발명과 첨예한 우선권 논쟁에 휘말려 특허권이 취소되는 등의 불운으로 사업적으로 성공하지는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신 이들의 후발주자로 나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anz &amp; Company, Linsay &amp; Company, Westinghous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이 교류발전소를 건설하여 본격적으로 교류 시스템 사업이 시작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8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영국에서는 페란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Sebastian Ziani de Ferranti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교류 발전소가 처음 지어졌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국에서는 스탠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William Stanley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웨스팅하우스에서 교류 발전이 시작되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기 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달리 급진적 발명이 많았던 시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증기터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행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등등 주요한 기술 시스템 새로이 출범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 이러한 급진적 발명의 주체는 독립 발명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전신 회사는 전화 발명에 별 역할을 하지 못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선전신 초기 역사에도 전화 및 전신 회사들은 극히 미미한 역할밖에 하지 못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립발명가들은 기존 기술에 투자하고 있는 대규모 조직들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의 모멘텀에 아무런 도움을 주지 못할 뿐 아니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조직이 주도권을 장악하고 있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세계의 현상태에 도전할지도 모르는 발명을 장려하지 않을 것이라는 점을 정확히 인지하고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진적인 발명은 많은 경우 노동자들과 엔지니어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자들의 숙련을 감소시키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 행해진 재정적 투자를 일소시켜 버리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체로 조직 내에서 긴장을 조성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규모 조직들은 종종 급진적인 발명에 관한 제안을 기술적으로 조잡하다거나 경제적으로 위험하다는 이유를 들어 거부하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실 이는 맞는 말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!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우에 따라 급진적 발명을 자기가 해놓고서도 과거의 투자를 회수하기 위해 그것의 실용화를 늦추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E.g.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광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발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비 시스템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배전 시스템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전까지는 도입되지 않았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최초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earl Stree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 시스템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 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Ganz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변압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아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Three-phase pole-mounted step-down transform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럴드 브라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Harold Brown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8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뉴욕 시에서 사형 방법으로 교수형보다 인도적인 방법으로 전기의자를 도입하자고 주장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이를 이용하여 교류의 도입을 저지하고자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사람을 죽일 수도 있는 살인 전기인 교류를 가정에서 사용하는 것은 너무 위험하다는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의회에서 송전 전압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00V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하로 제한하는 법률을 통과시키기 위해 노력하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시도는 실패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람들에게 교류 시스템의 안전성 문제를 효과적으로 각인시킬 수 있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안전성 문제가 아니더라도 송전 파트를 제외하고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비해 딱히 장점이 없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히려 발전 효율도 직류에 비해 낮았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용적인 교류모터도 없어 발전을 해도 사용하기가 어려운 상황이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류 시스템의 역돌출부는 테슬라에 의해 완전히 해결되었다고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스트리아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raz Polytechni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프라하 대학에서 공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다페스트 전화 시스템에서 전기 기술자로 일하다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8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부터 프랑스 에디슨 전기회사에서 일하였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188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는 미국으로 와 역시 에디슨 전기회사에서 일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는 일찍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식을 생각하고 있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류자를 없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터를 생각했고 수차례 건의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디슨은 교류발전에 반대 입장 고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국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뒤 독립하여 독자적인 회사 세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상 발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터 시스템 개발 및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888)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초의 상업화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발명가 혼자의 몫 아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웨스팅하우스는 테슬라를 컨설팅 엔지니어로 고용하고 대규모 투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직접 고용된 엔지니어들의 연구 독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89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웨스팅하우스가 나이아가라 폭포에 대규모 수력 발전소를 건설하면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전쟁에서 완전한 우위를 획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병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Eliuh Thompt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수석 연구원 및 발명가로 일하게 되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명가로서의 톰슨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와 충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에디슨의 전략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AC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로의 전환 방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amp;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지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소비자의 기대 충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회사 가치 키워 비싸게 팔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테슬라의 다상 전동기 특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1888)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Friedrich Haselwander 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 송전 시스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동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189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AC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표준화의 힘이 완전히 강력하지 못할 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은 자신의 니치를 남길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댑터는 구실의 구제책이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국적으론 표준전쟁의 종결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불일치는 우연히 생겨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오랜 기간 지속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표준 결정의 불참은 시장에서 소외를 가져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거대 구매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정부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결정적 역할 하기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4)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표준화에서 밀린 진영은 대세를 따르거나 새로운 활로 모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werty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키보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다른 키보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처음에 타자를 배운 사람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werty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씀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우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방송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구매의 닭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달걀문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수요가 늘어야 싸게 팔 텐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싸게 팔아야 많이 살 텐데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웨스팅하우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왼쪽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Section of cable over which current over Niagara station was conducted.  April 16, 1895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G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소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생산과 직결된 일상적 연구로부터 독립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R&amp;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에 집중할 수 있도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럽과의 기술 경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품질의 독일산 백열등과 경쟁할 수 있는 백열등 개발 추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고가의 특허 로열티 지불 방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소의 특징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윤에 눈이 먼 개인발명가 경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원들의 성과는 기업의 특허 및 이윤으로 이어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유지를 위해 수요를 바꾸기 위한 노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은 일정하게 공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Bu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비는 시간에 따라 천차만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렇다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책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소비시간대 전기요금 인하 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사용을 증가 기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양수발전소 등의 기술 개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는 앞의 역돌출부 해결과 같은 맥락이면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유지를 위한 보수적 해결책의 일환이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숙기에 다다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잡한 기술 시스템에서는 조직관리의 문제가 역돌출부로 대두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92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대에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가들은 수평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직적으로 통합되어 있는 전기회사들의 구성이나 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재정 등 전체적인 업무를 담당할 조직적인 형태가 필요함으로 절감하게 되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대처하여 적절한 지주회사의 형태를 “발명”함으로써 역돌출부를 제거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과 하위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 수준의 문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터보 발전기는 전력시스템의 하위시스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 전력시스템의 구성요소이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터빈과 발전기 등의 구성요소로 이루어진 시스템이기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터빈이나 발전기는 다시 그 속에 각자의 구성요소를 갖는 시스템으로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개념은 추상적일 수도 있지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매우 인간적인 모습으로 분석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내에서 전기기구 제조업체는 전력회사로부터 전기에너지를 취하고 전력회사에 발전장비를 공급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기서 전기기구 제조업체는 전력회사에 장비를 판매함으로써 수익을 얻을 수도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다시 전력회사에 투자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조업체와 전력회사는 설계와 작동을 개선하기 위해 장비의 성능에 대한 정보를 교환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투자은행은 제조업체나 전력회사에 대한 투자로부터 이윤을 얻을 수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것을 다시 투자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자은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기기구 제조업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력회사 사이에 전등 및 전력 시스템에 대한 재정적 혹은 기술적 정보들이 상호교환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과 같은 사례에서 각 기업의 지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제를 담당하는 이사진이 서로 중복되는 경우도 생기게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가 없을 때에는 전기를 어떻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신은 뭘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전소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등이든 뭐든 그곳에 달아서 쓸 수 있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0" y="5265720"/>
            <a:ext cx="7099200" cy="496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직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도시의 집중된 지역에 최적화되어 있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낮은 전압의 발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많은 백열등의 병렬 연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F9F-B52C-4470-8FCD-06BB8D8C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632-AAC1-420D-81C6-1AB8C39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E24-CC69-4CAE-ABE1-7EEB8862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1DA-91A8-44C5-ADB3-F8624DC4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5AA-EC73-4D9C-996C-35EB7D13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E433-CCA5-4C0A-9735-3A94EC3B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8DB5-2928-4315-B6B2-53EE94D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F50C-828B-4A87-B40F-D37A9CA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7AD-EF1D-4105-BDE5-E94007F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587A-7C5A-41A9-8BE4-444FCB5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14B-F6FB-4463-B712-D5AC7FD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967-BFF6-4FCF-A97B-C30956E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14A-392E-4F48-A8C8-B35A5BB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6B68-DB48-42E7-9566-5B2B049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29A-364E-41F1-A387-371BEAC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FDAC-B19B-4BE5-AB3E-0648F41C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26D3-C8A9-4BBB-9535-88185D92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D4F-5DC0-40DD-B831-721344B6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09A-6C66-453F-B463-B0D705F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73F-28A5-4613-B9D9-AC80F22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23E-90E7-4A5D-B07D-CFD7BB7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655-6440-4BEC-80C8-9B30E7C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5B3-B71E-426C-B9C1-F796F0A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D0D-C350-4297-A1BB-B069DB18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DC4-99C8-4FE1-814B-20139E1D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1D3-7A07-4C79-9029-ED6EC708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Image:PoleMountTransformer02.jpg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시스템과 표준 </a:t>
            </a:r>
            <a:br>
              <a:rPr sz="4800"/>
            </a:br>
            <a:r>
              <a:rPr b="1" lang="zh-CN" sz="3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력시스템을 중심으로</a:t>
            </a:r>
            <a:endParaRPr b="1" lang="en-US" sz="36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533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4105440" cy="265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14840" y="4879800"/>
            <a:ext cx="197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와 그 연구원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왜 시골에 지었을까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859280" y="549360"/>
            <a:ext cx="42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의 외관과 연구소 내부</a:t>
            </a: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기기구 및 그것을 가지고 한 실험 광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Georgia"/>
              </a:rPr>
              <a:t>Frank Leslie's Illustrated Newspaper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(1880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년 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월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Thomas Edison"/>
          <p:cNvPicPr/>
          <p:nvPr/>
        </p:nvPicPr>
        <p:blipFill>
          <a:blip r:embed="rId2"/>
          <a:stretch/>
        </p:blipFill>
        <p:spPr>
          <a:xfrm>
            <a:off x="5076720" y="2133720"/>
            <a:ext cx="3140280" cy="434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67680" y="65214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omas Edison(187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659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1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발명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개발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혁신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(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의 탄생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발명가 겸 기업가”의 역할 중요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배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소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계량 동시에 해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각 하위시스템을 기업 조직과 직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등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시스템의 최고 관리 및 자금 확보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 에디슨 전기조명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시스템의 상업적 실현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전력 공급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기계제작소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기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기튜브사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도선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에디슨 전구제작소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백열등 대량 생산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먼로 파크 연구소 …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시장 형성에도 관여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초기에는 틈새 시장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등의 경우 극장…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차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성장 후 가스회사와 맞섬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어떤 전략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전기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modern world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의 상징임을 설파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기가 산업에 동력원으로 응용된 것은 가장 마지막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왜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? 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913200" cy="623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200" y="20160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Edison as a Wizard (187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4224240" cy="623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17280" y="23328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Electricity as a Prometheus (191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이전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[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 스타일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]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한 지역에서의 성공 </a:t>
            </a:r>
            <a:r>
              <a:rPr b="1" lang="ko-K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 다른 지역으로 이동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그러나 어느 곳에서나 똑같이 성공적인 것은 아님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왜 그러한 차이가 생기는가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기술 스타일의 차이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지역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문화에 따라 다른 기술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에디슨 시스템의 유럽 이전 사례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독일의 베를린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300" spc="-1" strike="noStrike">
                <a:solidFill>
                  <a:srgbClr val="cc0000"/>
                </a:solidFill>
                <a:latin typeface="산돌고딕 L"/>
              </a:rPr>
              <a:t>6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개의 대규모 발전소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영국의 런던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300" spc="-1" strike="noStrike">
                <a:solidFill>
                  <a:srgbClr val="cc0000"/>
                </a:solidFill>
                <a:latin typeface="산돌고딕 L"/>
              </a:rPr>
              <a:t>50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개의 소규모 발전소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이는 기술의 차이라기보다는 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(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법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)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제도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, 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역사의 차이</a:t>
            </a:r>
            <a:r>
              <a:rPr b="1" lang="ko-KR" sz="2300" spc="-1" strike="noStrike">
                <a:solidFill>
                  <a:srgbClr val="cc0000"/>
                </a:solidFill>
                <a:latin typeface="산돌고딕 M"/>
                <a:ea typeface="산돌고딕 M"/>
              </a:rPr>
              <a:t>: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영국의 경우 독점 제한이라는 문화적 법적 장벽 존재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전기조명법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1882) </a:t>
            </a:r>
            <a:r>
              <a:rPr b="1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 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지방자치구역을 넘어서는 전력 시스템 건설 실질적으로는 불가능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323040" cy="579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6760" y="626904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920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경 런던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파리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베를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시카고의 발전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3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경쟁과 시스템의 성장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역돌출부”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의 구성요소 중 뒤쳐진 요소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많은 사람들의 공통 경험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때로는 경제적인 문제이기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엔지니어들은 이를 풀 수 있는 문제로 바꿈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“결정적 문제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동시발명”이 왜 그렇게 많이 일어나는지 설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D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vs.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초기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A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역돌출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송전 거리의 한계 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보수적 해결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3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선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or 5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선 배전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충전지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storage battery)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급진적 해결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A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송전 방식 도입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변압기를 이용한 고압 송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)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그러나 이것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D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시스템을 포기하는 것이 됨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초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역돌출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실용적인 전동기의 부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기업체 연구소의 역할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술적인 역돌출부 해결 공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not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급진적 발명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여전히 급진적 발명의 상당 부분은 독립발명가의 몫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이 성장하면 이윤증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장 장악에 초점 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경영자 겸 기업가”의 역할 중요해짐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05200" cy="138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Three-phase pole-mounted step-down transforme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4149720"/>
            <a:ext cx="2381040" cy="23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64000" y="189000"/>
            <a:ext cx="2711520" cy="323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39640" y="1700280"/>
            <a:ext cx="3454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간 갈등의 해소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D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디슨회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 vs. AC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웨스팅하우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사이의 갈등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은 여전히 집중된 도시에서는 효율적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 나름의 문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실용적 전동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전압의 안전 문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?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디슨의 정치적 공격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“AC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는 살인 전류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갈등의 해소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의 기술적 역돌출부 해결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3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상 발전기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&amp; 3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상 전동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기술적 우위 획득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러나 “제도화된”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C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은 쉽게 무너지거나 포기하지 않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커플링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(coupling) &amp; 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합병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(merging)</a:t>
            </a:r>
            <a:r>
              <a:rPr b="1" lang="ko-KR" sz="2000" spc="-1" strike="noStrike">
                <a:solidFill>
                  <a:srgbClr val="cc0000"/>
                </a:solidFill>
                <a:latin typeface="산돌고딕 M"/>
              </a:rPr>
              <a:t>을 통한 갈등 해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커플링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각종 컨버터들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시스템 간의 화해 호환 기술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AC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로 고압 송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최종 소비자는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DC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전류로 전환해 사용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합병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에디슨 은퇴 후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,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에디슨 회사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+ Thompson-Huston Co.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 General Electric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GE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Westinghouse </a:t>
            </a:r>
            <a:r>
              <a:rPr b="1" lang="ko-KR" sz="1800" spc="-1" strike="noStrike">
                <a:solidFill>
                  <a:srgbClr val="000000"/>
                </a:solidFill>
                <a:latin typeface="산돌고딕 L"/>
              </a:rPr>
              <a:t>특허교환 협약</a:t>
            </a:r>
            <a:endParaRPr b="1" lang="en-US" sz="18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급진적인 방식의 갈등 해소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vs.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부드러운 방식의 갈등 해소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“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AC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는 살인 전류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537080" cy="3537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19640" y="763560"/>
            <a:ext cx="3024360" cy="2062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2952720" cy="201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45000" y="5111640"/>
            <a:ext cx="51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H. Brown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전기 의자 도입 제안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80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890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일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최초로 전기의자로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Kemmler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사형 집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다음날 신문의 헤드라인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“Kemmler Westinghoused!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존성과 네트워크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산업화의 과정을 거치면서</a:t>
            </a: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사람들은 자연에 덜 의존하게 되는 대신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서로서로에게는 더 많이 의존하게 된다”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전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前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산업사회에서는 삶이 불안정하면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날씨의 변덕과 자연적 위험에 책임을 돌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산업사회에서는 삶이 불안정하면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시장의 변덕과 사회적 위험에 책임을 돌림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즉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개인들은 거대하고 복잡한 네트워크 속에 연결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357640" cy="619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4655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Rotary converter DC end"/>
          <p:cNvPicPr/>
          <p:nvPr/>
        </p:nvPicPr>
        <p:blipFill>
          <a:blip r:embed="rId2"/>
          <a:stretch/>
        </p:blipFill>
        <p:spPr>
          <a:xfrm>
            <a:off x="684360" y="1341360"/>
            <a:ext cx="5238720" cy="4143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34200" y="5661000"/>
            <a:ext cx="33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초기 로터리 컨버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rotary conver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화해의 기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표준화의 다른 사례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B"/>
              </a:rPr>
              <a:t>표준화를 둘러싼 문제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표준화는 보통 공적이익에 도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. But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사적이익 ≠ 공적이익 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막대한 교체비용 등의 문제로 자신이 아닌 상대가 바꾸길 바람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Positive feedback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작동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선점이 무척 중요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그러나 선점이 다는 아님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B"/>
              </a:rPr>
              <a:t>표준화의 사례들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에디슨의 “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Hello” 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벨의 “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Ahoy” 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에디슨의 유통설명서 덕분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Qwerty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키보드를 쓰는 이유는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? Qwerty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타자기를 써왔기 때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철로 게이지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북부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피트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8.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인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남부의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피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북전쟁 시 정부의 대륙횡단 철도 표준화 결정에 남부 불참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북전쟁 후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4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피트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8.5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인치로 고착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남부는 대세를 따를 수밖에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컬러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TV (CBS) vs.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흑백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</a:rPr>
              <a:t>TV (RCA) 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1950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TV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방식 표준 채택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&amp; 1951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 컬러 방송 시작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그렇지만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를 본 사람은 수십 명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왜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부족한 컨텐츠의 문제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주류 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시청 불가능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비호환의 문제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측은 일부러 비호환적인 방송 지속적으로 제공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버티기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!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게다가 가격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: 21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인치 흑백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300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달러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vs. 12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인 컬러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TV 1000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달러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결국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CBS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항복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&amp; RCA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의 표준 채택 </a:t>
            </a:r>
            <a:r>
              <a:rPr b="0" lang="ko-KR" sz="1400" spc="-1" strike="noStrike">
                <a:solidFill>
                  <a:srgbClr val="000000"/>
                </a:solidFill>
                <a:latin typeface="산돌고딕 L"/>
              </a:rPr>
              <a:t>(1953)</a:t>
            </a:r>
            <a:endParaRPr b="1" lang="en-US" sz="14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컬러 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TV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를 보편화시킨 것은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? 1960</a:t>
            </a:r>
            <a:r>
              <a:rPr b="0" lang="ko-KR" sz="1600" spc="-1" strike="noStrike">
                <a:solidFill>
                  <a:srgbClr val="000000"/>
                </a:solidFill>
                <a:latin typeface="산돌고딕 L"/>
              </a:rPr>
              <a:t>년대 디즈니 컬러의 경이로운 세계</a:t>
            </a:r>
            <a:endParaRPr b="1" lang="en-US" sz="16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나아아가라 수력 발전기 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1893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2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4425840" cy="5904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2728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나이아가라 발전소에서 뻗어나온 전선 </a:t>
            </a:r>
            <a:r>
              <a:rPr b="0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8208720" cy="567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Universal Supply System</a:t>
            </a:r>
            <a:br>
              <a:rPr sz="3400"/>
            </a:b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Before and After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340160" cy="46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305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4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단계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의 공고화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재정가 겸 기업가” 및 “컨설팅 엔지니어”의 역할 중요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Universal 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전력 공급 시스템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거대 교류 발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고압 송전 – 변압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저압 배전 – 전등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동기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미국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GE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Westinghouse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독일은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AEG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와 지멘스로 통폐합 정리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각종 표준화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교류 주파수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전압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M"/>
              </a:rPr>
              <a:t>위상 표준화</a:t>
            </a:r>
            <a:endParaRPr b="1" lang="en-US" sz="19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시스템 성숙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 변화에 저항하는 힘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모멘텀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산돌고딕B"/>
              </a:rPr>
              <a:t>가짐</a:t>
            </a:r>
            <a:endParaRPr b="1" lang="en-US" sz="22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거대한 덩치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mass)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일정한 방향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direction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주변 환경도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통제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일부로 끌어들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유지를 둘러싼 이해관계 집단 함께 성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미 시스템에 투자된 자금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인력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조직이 상당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교육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4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년제 공과대학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기공학과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문 공학 학회 및 저널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산업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전차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공장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가전제품 등 전력 시스템과 얽히게 된 산업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조직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기업 연구소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기업들의 인수 합병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지주회사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은행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</a:rPr>
              <a:t>정부</a:t>
            </a:r>
            <a:endParaRPr b="1" lang="en-US" sz="19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스템의 모멘텀 더욱 증가시킴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시스템 변화 둔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기존 시스템은 유지한 채 변화와 추가를 하려고 하는 경향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만약 누군가 다른 방식으로 시스템을 변화시키려고 한다면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빵의 예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Before &amp; After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근대화 이전의 농업 공동체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공동체의 일원들과 함께 농작물 재배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확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가공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같이 일하는 사람들은 모두 아는 사람이거나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의 도움이 없더라도 혼자 할 수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산돌고딕B"/>
              </a:rPr>
              <a:t>근대와 이후 도시의 개인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농부 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농기계와 화학비료를 써서 밀을 재배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수확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보관업자 및 운송업자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제분회사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제빵공장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시장을 거침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공장을 돌리기 위해서는 기계와 전기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운송을 위해서는 트럭이나 기차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배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운송수단이나 농기계를 굴리기 위해서는 석유가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석유는 채굴과 정유과정을 거치는 배급망을 필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빵 하나를 구하기 위해 우리는 수천 명의 다른 사람에 의존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은 대부분 우리가 모르는 사람들이고</a:t>
            </a:r>
            <a:r>
              <a:rPr b="1" lang="en-US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 중 상당수는 엄청나게 멀리 떨어진 곳에 살고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산돌고딕 M"/>
              </a:rPr>
              <a:t>그들은 또 작동원리도 모르는 기계와 장비들을 사용하고 있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시스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이 발전할수록 개별 기술들 사이에 연관 생김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석탄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증기기관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광산에 도입된 증기기관이 더 많은 석탄을 채취하게 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이 석탄은 공장에 도입된 증기 기관의 연료로 사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이를 운송하기 위해 철도와 증기 기차가 발전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생산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수송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소비 사이의 시너지 효과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시작이 서로 달랐던 기술이지만 곧 통합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언론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군대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금융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철도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회사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외교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국제무역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1880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년경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신이 마비된다면 어떤 일이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산돌고딕B"/>
              </a:rPr>
              <a:t>Thomas P. Hughes, </a:t>
            </a:r>
            <a:r>
              <a:rPr b="1" i="1" lang="en-US" sz="3400" spc="-1" strike="noStrike">
                <a:solidFill>
                  <a:srgbClr val="cc0000"/>
                </a:solidFill>
                <a:latin typeface="산돌고딕B"/>
              </a:rPr>
              <a:t>Networks of Power</a:t>
            </a:r>
            <a:endParaRPr b="1" lang="en-US" sz="34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503520" cy="518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9080" y="1555920"/>
            <a:ext cx="41436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Hughes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기술 시스템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발전기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동기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구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전화 …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은 위와 같은 낱개의 인공물을 뜻하는가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각 인공물들의 네트워크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 시스템을 이룸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기술시스템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구성요소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네트워크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구성요소가 바뀌면 다른 것도 바뀜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시스템은 다루기 어려운 주변환경을 점차 시스템 내부로 통합하여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불확실성을 제거하고 통제하려는 경향이 있음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technical artifacts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들만의 집합 아님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socio-technical system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생산업체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설비회사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투자은행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법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정치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과학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자연자원도 포함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marL="4953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Hughes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의 발전 단계</a:t>
            </a: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: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산돌고딕B"/>
              </a:rPr>
              <a:t>발전 단계를 거치며 이를 담당하는 사람들이 다름</a:t>
            </a:r>
            <a:endParaRPr b="1" lang="en-US" sz="18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발명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개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혁신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 이전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(cf.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기술 스타일의 문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시스템간의 경쟁과 성장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: 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역돌출부”와 “결정적 문제”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산돌고딕 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화해와 시스템의 공고화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</a:rPr>
              <a:t>모멘텀</a:t>
            </a:r>
            <a:endParaRPr b="1" lang="en-US" sz="18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시스템 구축가</a:t>
            </a: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(system builder)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Edison vs. Swan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누가 먼저 전구를 발명했는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Hughes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에게 이런 비교 의미 없음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. Edis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은 시스템 구축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!</a:t>
            </a:r>
            <a:br>
              <a:rPr sz="2100"/>
            </a:b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성공적인 백열등 개발 위해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아예 전력시스템 전체 통째로 설계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Edison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이 구축한 전력 시스템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발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배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소비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계량 등 여러 하위시스템으로 구성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전구는 그 중 한 구성요소일 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그 외에도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발전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병렬 배전 시스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백열등 소켓 표준화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계량기 등도 중요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런 것들을 혼자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 No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협동연구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(Menlo Park Laboratory)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훌륭하고 상호보완적인 다양한 인력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값비싼 설비와 공작기계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화학장치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도서실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과학기기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이런 것들을 어떤 자금으로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?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에디슨 전등사와 훌륭한 로비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초기 시스템 구축 과정에서 왜 “시스템 구축가”가 중요한가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경쟁 시스템의 존재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가스등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값싸고 효율적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)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아크등</a:t>
            </a:r>
            <a:br>
              <a:rPr sz="2100"/>
            </a:b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경쟁시스템만큼은 성능이 좋고 비용면에서 저렴해야</a:t>
            </a:r>
            <a:r>
              <a:rPr b="1" lang="ko-KR" sz="2100" spc="-1" strike="noStrike">
                <a:solidFill>
                  <a:srgbClr val="cc0000"/>
                </a:solidFill>
                <a:latin typeface="산돌고딕B"/>
              </a:rPr>
              <a:t>!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1866960" cy="391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48000" y="549360"/>
            <a:ext cx="4648320" cy="423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28080" y="4869000"/>
            <a:ext cx="698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Edison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전구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고저항 필라멘트 사용   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점보 발전기</a:t>
            </a:r>
            <a:r>
              <a:rPr b="1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Jumbo Dynamo)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수천개의 전구 켤 수 있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84720" y="5300640"/>
            <a:ext cx="3805200" cy="138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52960" y="5805360"/>
            <a:ext cx="16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선 병렬 배전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4680000" cy="316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90520" y="21276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첫 번째 발전소인 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Pearl Street 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발전소 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뉴욕</a:t>
            </a:r>
            <a:r>
              <a:rPr b="0" lang="en-US" sz="16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, 188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5114880" cy="268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40360" y="386064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산돌고딕B"/>
                <a:ea typeface="산돌고딕B"/>
              </a:rPr>
              <a:t>에디슨의 전력 시스템</a:t>
            </a:r>
            <a:r>
              <a:rPr b="1" lang="en-US" sz="1800" spc="-1" strike="noStrike">
                <a:solidFill>
                  <a:srgbClr val="000000"/>
                </a:solidFill>
                <a:latin typeface="산돌고딕B"/>
                <a:ea typeface="산돌고딕B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도시의 집중된 지역에 최적화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100 &amp; 200V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발전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직류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수많은 백열등 병렬연결</a:t>
            </a:r>
            <a:r>
              <a:rPr b="0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09-29T14:45:12Z</dcterms:modified>
  <cp:revision>148</cp:revision>
  <dc:subject/>
  <dc:title>중세 유럽의 과학</dc:title>
</cp:coreProperties>
</file>